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BF08-1504-44AE-ABDA-18D2410D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C2B-7544-4780-8BA5-4D8D9C5F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3FF-9166-4A6A-843A-ADE39CEB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D43-2B48-4DFC-8B0D-4FCD06CD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A7D-74A7-4980-AACD-0B6C6F64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9DEB-A5A8-4129-9295-062958EB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6D1-C2F8-4AEF-A5C2-FED4EA52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216-3789-4FAC-BD52-00AF0971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4E3F-EA80-48E6-8823-D90EBEC2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CC5-9ABF-4DD8-9FB3-37A233B0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3E72-8F31-492D-9AC9-F6BADA57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E92E-A0AE-45FA-883B-96E1D7D6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BB56-36E5-456C-A186-C656D030E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démarche qualité dans l’espace européen de l’enseignement supéri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tricia P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ordinatrice nationale des experts de Bolo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ice présidente Université Paris-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164440" y="5511960"/>
            <a:ext cx="979560" cy="1346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1667" t="1877" r="1667" b="4049"/>
          <a:stretch/>
        </p:blipFill>
        <p:spPr>
          <a:xfrm>
            <a:off x="0" y="907920"/>
            <a:ext cx="1482840" cy="92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ning en France, atelier qualité, 13-14 mar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exemple de fiche d’évalu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(AE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fiques et pédag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nels et débouch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ex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nement dans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ssement à la recher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érence des parcours L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verture internat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: bon, B : moyen, C: insuffis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ning en France, atelier qualité, 13-14 mar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Organisation pédagogique des cur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sponsbale de la m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quipe pédagog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 tronc commun/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spects professionnalis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spects formation à la recher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as échéant : liens avec d’autres éc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ning en France, atelier qualité, 13-14 mar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Bilan de foncti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x constatés et attend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an du devenir des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ux constats : Points forts/points fa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et recomma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ning en France, atelier qualité, 13-14 mar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ques repè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’importance de la démarche qualité dans le processus de Bolo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références et lignes d’orientation pour une démarche interne d’assurance qualité (ESG, European Standards and guideli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exigences de l’A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ning en France, atelier qualité, 13-14 mar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-delà des divergences d’appellations et de conceptions : quality assurance/quality enhancement/accountability, culture qualité/management de la qualité/amélioration continue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objectifs de qualité, attractivité, comparabilité,mobilité restent au cœur du processus de Bolo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i se dote de structures et de cadres communs pour l’éval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ning en France, atelier qualité, 13-14 mar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rincipe de 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La gestion de la qualité incombe aux responsables des universités avec la participation des étudiants et des autres parties pren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Les évaluateurs extérieurs sont capables de répérer l’existence de problèmes, mais ils ne sont pas aptes à créer ou à mettre en oeuvre la qualité des programmes d’étu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ning en France, atelier qualité, 13-14 mar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cteurs europé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QA : the European association for Quality Assurance in Higher Education qui est un réseau de membres (agences nationales : ex en France AERES, CTI) et associés (ex IGAEN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conçu les « European standards and guidelines » (ESG) acceptés par les ministres à Bergen (2005) en étroite collaboration avec le groupe E4 ( EUA, l’ESU et EURAS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egistre européen des agences nationales dont le principe a été adopté à Londres (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ning en France, atelier qualité, 13-14 mar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ES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Trois par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valuation interne des établis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Évaluation exte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valuation des agences d’é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ning en France, atelier qualité, 13-14 mar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valuation interne de la qualité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(ES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litique et procédures mises en place pour le management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pprobation, examen et révision périodique des programmes et diplô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valuation des étudi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nagement de la qualité du corps enseig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tils pédagogiques et soutien des étudi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stèmes d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formation au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ning en France, atelier qualité, 13-14 mar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’approche Tu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La qualité doit se focaliser sur les programmes d’é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éfinition claire des objectifs pédagogiques et des profils académ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Méthodes (d’enseignement, d’apprentissage, d’évaluation) en adéquation avec l’atteinte de ces 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tinence  et cohérence des élément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stitutif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es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667" t="1877" r="1667" b="4049"/>
          <a:stretch/>
        </p:blipFill>
        <p:spPr>
          <a:xfrm>
            <a:off x="0" y="907920"/>
            <a:ext cx="1482840" cy="92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ning en France, atelier qualité, 13-14 mar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Un ensemble cohérent de caractéris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 besoins identifiés et recon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 ressources (humaines et financières) suffis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profil bien déc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 résultats de l’apprentissage correspondants exprimés en termes de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e affectation correcte des credits ECTS aux unités d’enseignement du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 approches appropriées à l’enseignement, à l’apprentissage et à l’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e évaluation interne appropri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ning en France, atelier qualité, 13-14 mar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5:21:17Z</dcterms:created>
  <dc:creator>POL</dc:creator>
  <dc:description/>
  <dc:language>en-US</dc:language>
  <cp:lastModifiedBy>POL</cp:lastModifiedBy>
  <dcterms:modified xsi:type="dcterms:W3CDTF">2008-03-09T16:48:03Z</dcterms:modified>
  <cp:revision>12</cp:revision>
  <dc:subject/>
  <dc:title>International mobility in higher education: from a European to a global perspective</dc:title>
</cp:coreProperties>
</file>