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E92-4F03-4175-826D-0CFB97C6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E10-0D25-4DB0-B26E-2EB3D92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639-384B-4801-8750-C5EEC559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93D-8755-404F-8C1E-4E9ACBB1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1F4-C2E5-4CB7-9173-336350D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98F-E9FD-4EBA-8390-325CA51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C96-3023-43BB-8791-DF01703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6C0-3B6B-4832-9818-5A3B7DA4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58E-4496-496F-8980-6646ACF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2BE-4065-45D8-BC27-999B1D0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EB4-CAB1-4E74-B8CC-CC6FC10B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308-EFE4-4D94-A184-C572AFA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77B-CCF3-4424-B930-5CD8B07D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ng: pédagogie et E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colm 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eur de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viversite d’Exeter,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A auditor et Expert de Bolo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en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touch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and the code of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AA et T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semblance entre les ESG et le livret de la Q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que nous analy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que nous ne faisons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ère visite (3 jou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réunions: Président, équipe de direction ,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quipe de la QAA: 4 membres plus un sécretaire; analyse d’un document d’autoévaluation; analyse d’un document soumis par les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rôle de l’étudiant dans l’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rôle du secré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éparation des ré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ères d’é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paration de la 2e visite, 6 semaines plus tard (qui dure 5 j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 de voir: documentation détaillée, sites web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 de voir certains collègues de l’institution, peut-être des étudiants mais pas ceux du syndicat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e détaillée des textes et questions posées aux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port provi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ils: ‘advisables’ - faites-les!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sirables - faites-les s’il vous plaî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 confiance - ou pas - dans les standards actuels et dans l’a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nce dans les ‘learning opportunities’ de l’établis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ques de mauvais résul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ème complexe mais qui ressemble aux normes du système europé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ce qui concerne les ESG, nous adhérons aux prin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ning, en ce qui concerne l’assurance de la qualité, est acquis (ou presqu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83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4:33:32Z</dcterms:created>
  <dc:creator>Malcom Cook</dc:creator>
  <dc:description/>
  <dc:language>en-US</dc:language>
  <cp:lastModifiedBy>nicole.nicolas</cp:lastModifiedBy>
  <dcterms:modified xsi:type="dcterms:W3CDTF">2008-03-10T10:02:10Z</dcterms:modified>
  <cp:revision>2</cp:revision>
  <dc:subject/>
  <dc:title>Tuning: pedagogie et ESG</dc:title>
</cp:coreProperties>
</file>