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1035-5852-435D-8696-FF68DC02FE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D403-24BA-4E2D-9825-C25A1B5C70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DF5-068A-4977-B63C-3D640AB8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D98-F2CD-49F8-A889-6EA11ECF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4411-C236-4E5D-8731-B9A014DA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60B-316A-4867-84F7-DF6CA894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8B406-6DA0-49E8-878C-83452DD9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32F55-49AF-4629-A45E-169910F0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61E0E-E01E-448A-8543-7C7CD53C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46214-6DF5-46C9-B8B4-7ABF6FA8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1F5DD-0CC8-4C9F-B6A5-949DFE23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12D37-A406-4FAF-ACEA-D09D05F1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1C7BA-913B-4B84-BFB1-2B32AF9D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312-8B46-4FE8-A515-A4243B30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F7172-888F-48EE-A60D-23E8FCBD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A337C-773B-4F33-BC76-A19EBDD3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AF62F-5FC8-4F54-AD18-599461AD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17941-E7FB-4727-A712-4657B9CC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CA338-1FE0-4D26-A467-3A1B9931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A13-8615-4F2B-A1F2-627A3D24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6A7-C198-4E97-90F3-5F1F98FE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2FB-762B-4414-A85B-6A056361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8D9-B46C-4B72-8BCE-77F41A4C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8F2-EE69-4DC2-98FC-A1A183EA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7E61-399F-4906-A87C-66271D40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0EB-2F28-4D34-9F8D-BC290AC7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3CE4-1E52-4A78-A49D-FF78256009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9418-A8EF-4438-8D30-787D760DE0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L’approche Tuning de la qualité dans l’Enseignement Supérieur</a:t>
            </a:r>
            <a:r>
              <a:rPr b="0" lang="en-GB" sz="4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 gestion de la qualité est au coeur de la construction de l’espace européen de l’enseignement supérieur et de la recher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Jean-Luc LAMBOLEY, Expert de Bolog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4. Traduction dans le curs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nus (champs à couvrir/thèmes à traiter ) et structure (unités d’enseignement/modules et créd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épartition  de la charge de travail : système modulaire ou non ; ne pas surcharger les programmes, surtout en 1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cyc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érifier la cohérence et la progressio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en entre crédits et acquis de l’apprentissage ; le niveau doit correspondre aux normes du cadre européen et national de qual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Luc LAMBOLEY, Expert de Bolog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5. Construction des maquettes (syllabus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cription de chaque unité d’enseignement ou modul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titulé, professeur, semest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ype de cour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fondamental, mineur, optionn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iveau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ff505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ique, </a:t>
            </a:r>
            <a:r>
              <a:rPr b="0" lang="en-GB" sz="3200" spc="-1" strike="noStrike">
                <a:solidFill>
                  <a:srgbClr val="ff505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termédiaire, </a:t>
            </a:r>
            <a:r>
              <a:rPr b="0" lang="en-GB" sz="3200" spc="-1" strike="noStrike">
                <a:solidFill>
                  <a:srgbClr val="ff505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ncé, </a:t>
            </a:r>
            <a:r>
              <a:rPr b="0" lang="en-GB" sz="3200" spc="-1" strike="noStrike">
                <a:solidFill>
                  <a:srgbClr val="ff5050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cialis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mbre de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crédit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ribué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Luc LAMBOLEY, Expert de Bolog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élection des approches pédagogiques et des méthodes d’évaluation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lles doivent être en adéquation avec les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bjectifs attendu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Types d’enseignement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urs magistra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séminaire, T.P., T.D., travail de laboratoir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utorat, travail de terrain, stage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Types d’apprentissag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ssistance aux cours, travaux écrits, exposés, lectures bibliographiques, participation à des colloques, entretiens individuels, stage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Types d’évaluation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amens écrits et/ou oraux, rapports, thèse ou mémoire terminal, notation d’exposés ou travaux écrits, contrôle continu et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Luc LAMBOLEY, Expert de Bolog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7. Mise en place d’un système d’évaluation visant à améliorer la  qualité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ur la bas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u retour : évaluation par les étudiants (questionnai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e l’anticipation : prévoir les développements sociaux et culturels développements, ainsi que l’évolution du champ disciplinaire concern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processus dynamique et permanent ; la qualité n’est pas une situation acquise, c’est un  état d’esprit qui vise à une amélioration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Luc LAMBOLEY, Expert de Bolog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55640" y="-360"/>
            <a:ext cx="7772400" cy="71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1637" t="1916" r="1637" b="4010"/>
          <a:stretch/>
        </p:blipFill>
        <p:spPr>
          <a:xfrm>
            <a:off x="6981840" y="333360"/>
            <a:ext cx="2162160" cy="1236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0"/>
            <a:ext cx="8915400" cy="61722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3200400"/>
            <a:ext cx="4648320" cy="1905120"/>
          </a:xfrm>
          <a:prstGeom prst="ellipse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3200400"/>
            <a:ext cx="30492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114800" y="5105520"/>
            <a:ext cx="45720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56000" y="1341360"/>
            <a:ext cx="251460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éfinition du profil du diplô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2421000"/>
            <a:ext cx="3733920" cy="792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Conception du programme : définition des acquis d’apprentissage/ compét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549360"/>
            <a:ext cx="225576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dentification des res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11280" y="836640"/>
            <a:ext cx="187020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836640"/>
            <a:ext cx="0" cy="43164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3357720"/>
            <a:ext cx="1828800" cy="1739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Construction d’un cursus: contenu et structure, répartition des créd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334120"/>
            <a:ext cx="281952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Sélection des approches pédagogi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334120"/>
            <a:ext cx="266688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Sélection des  types d’é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638680"/>
            <a:ext cx="762120" cy="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266720" y="5638680"/>
            <a:ext cx="762120" cy="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3284640"/>
            <a:ext cx="1523880" cy="1564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00"/>
                </a:solidFill>
                <a:latin typeface="Arial"/>
              </a:rPr>
              <a:t>Eva:uation 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00"/>
                </a:solidFill>
                <a:latin typeface="Arial"/>
              </a:rPr>
              <a:t>amélio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00"/>
                </a:solidFill>
                <a:latin typeface="Arial"/>
              </a:rPr>
              <a:t>(sur la base du retour et de l’anticip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78936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Amélioration de la qualité du program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3213000"/>
            <a:ext cx="4419720" cy="1828800"/>
          </a:xfrm>
          <a:prstGeom prst="ellipse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284640"/>
            <a:ext cx="4190760" cy="1752480"/>
          </a:xfrm>
          <a:prstGeom prst="ellipse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3657240" y="4800600"/>
            <a:ext cx="152280" cy="76320"/>
          </a:xfrm>
          <a:prstGeom prst="line">
            <a:avLst/>
          </a:prstGeom>
          <a:ln w="2844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971800" y="3733560"/>
            <a:ext cx="152280" cy="152280"/>
          </a:xfrm>
          <a:prstGeom prst="line">
            <a:avLst/>
          </a:prstGeom>
          <a:ln w="2844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962520" y="3657600"/>
            <a:ext cx="152280" cy="76320"/>
          </a:xfrm>
          <a:prstGeom prst="line">
            <a:avLst/>
          </a:prstGeom>
          <a:ln w="1908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190760" y="4724280"/>
            <a:ext cx="228600" cy="76320"/>
          </a:xfrm>
          <a:prstGeom prst="line">
            <a:avLst/>
          </a:prstGeom>
          <a:ln w="1908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333360"/>
            <a:ext cx="208728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dentification des besoins sociaux et des exigences académi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1989000"/>
            <a:ext cx="0" cy="50328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Luc LAMBOLEY, Expert de Bologne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cepts clef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Intérêt, pertinence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our les étudiants et la socié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mparabilité and compatibilité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EC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Transparence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Supplément au diplô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Mobilité et reconnaissance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es diplômes et cursus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contrat d‘études, relevé de no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Attractivité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points de références européens communs au niveau disciplinai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Luc LAMBOLEY, Expert de Bolog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uropea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etwork for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uality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ssurance in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er </a:t>
            </a:r>
            <a:r>
              <a:rPr b="0" lang="en-US" sz="3600" spc="-1" strike="noStrike">
                <a:solidFill>
                  <a:srgbClr val="f7fae8"/>
                </a:solidFill>
                <a:latin typeface="Arial"/>
              </a:rPr>
              <a:t>Educatio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 document produit par  l’ENQA,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Standards and guidelines for Quality Assurance in the EHE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 été approuvé au sommet de Bergen par tous les ministres européens de l’Edu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e urge higher education institutions to continue their efforts to enhance the quality of their activities through the systematic introduction of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internal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chanisms and their direct correlation to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quality assurance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e underline the importance of cooperation between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nationally recognised agencie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with a view to enhancing th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utual recognitio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of accreditation or quality assurance decisions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Luc LAMBOLEY, Expert de Bolog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Un principe de ba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 gestion de la qualité incombe aux responsables des universités avec la participation des étudiants et des autres partenai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s agents extérieurs sont capables de répérer l’existence de problèmes, mais ils ne sont pas aptes à créer ou à mettre en oeuvre la qualité des programmes d’étu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Luc LAMBOLEY, Expert de Bolog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3ff"/>
                </a:solidFill>
                <a:latin typeface="Arial"/>
              </a:rPr>
              <a:t>La qualité doit se focaliser sur les programmes d’étud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Définition clai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des objectifs pédagogiques et des profils académ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éthodes (d’enseignement, d’apprentissage, d’évaluation) en adéquation avec l’atteinte de ces objecti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ertinence  et cohérence des éléments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constitutifs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des program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Luc LAMBOLEY, Expert de Bolog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3ff"/>
                </a:solidFill>
                <a:latin typeface="Arial"/>
              </a:rPr>
              <a:t>Un concept important : 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déqua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déquation de l’objecti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: les objectifs des programmes d’études sont pertinents, justifiés ou no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déquation à l’objecti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les stratégies mises en oeuvre sont adéquates, pertinentes, pour atteindre les objectifs déclaré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point de vue de Tuning , l’adéquation à l’objectif n’a de sens que si l’adéquation de l’objectif a été démontr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arantir la pertinence des objectifs  exige une forte connection à la fois avec les besoins de la  recherche et les normes académiques, et avec la prise en compte de l’insertion professionne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Luc LAMBOLEY, Expert de Bolog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3ff"/>
                </a:solidFill>
                <a:latin typeface="Arial"/>
              </a:rPr>
              <a:t>Un ensemble cohérent de caractéristiqu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 besoins identifiés et recon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 ressources (humaines et financières) suffis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 profil bien décr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 acquis de l’apprentissage correspondants exprimés en termes de compé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e affectation correcte des credits ECTS aux unités d’enseignement du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 approches appropriées à l’enseignement, à l’apprentissage et à l’é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e évaluation interne approprié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Luc LAMBOLEY, Expert de Bolog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1. Definition du profil du diplô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cription des principales caractéristiques du programme</a:t>
            </a:r>
            <a:r>
              <a:rPr b="0" lang="en-GB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r la base des  buts spécif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n intégration dans la carte académique des disciplines ou des études thémat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en avec le monde professionn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rté/comparabil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Luc LAMBOLEY, Expert de Bolog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43588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2. Description des objectifs du programme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éfinition des acquis de l’apprentissage en  termes de connaissances, faculté de compréhension, savoir-faire et aptitu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e qu’un étudiant est censé savoir, comprendre et/ou  être capable de démontrer à la fin d’un cycle d’apprentissag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éfinition d’un niveau minimal à atteind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stimation de la charge de travail globale pour l‘étudi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Luc LAMBOLEY, Expert de Bolog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dentification des compétences transversales et disciplinaires à atteindre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ndre en compte l’insertion professionnelle des diplômés et le développement de la citoyenneté , autant que la formation académique et intellectuel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ire une différence claire entre compétences disciplinaires et compétences transver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ur les compétences transversales  (ou génériques) on peut distinguer les compétences instrumentales, interpersonnelles, et systém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Luc LAMBOLEY, Expert de Bolog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5:12:05Z</dcterms:created>
  <dc:creator> LAMBOLEY</dc:creator>
  <dc:description/>
  <dc:language>en-US</dc:language>
  <cp:lastModifiedBy>nicole.nicolas</cp:lastModifiedBy>
  <dcterms:modified xsi:type="dcterms:W3CDTF">2008-03-05T17:56:07Z</dcterms:modified>
  <cp:revision>6</cp:revision>
  <dc:subject/>
  <dc:title>The Tuning approach of Quality in Higher Education</dc:title>
</cp:coreProperties>
</file>